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771-8027-4E05-97B0-DA17A9D6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231-5407-496C-A200-B89CA4A3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89E-ACF8-4B9C-9B2B-28065BF6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E62-814E-4600-8E43-45B75F39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17E-C9EA-4DD7-9115-7957E187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FA6-E894-464D-A0F7-FB87E649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772-ACBA-482A-B3F5-CDA9CE1A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BCA-BE64-4422-AFB1-F2F4E58F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F8B-FC64-466C-8E2A-1972B1EA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51E-DB51-4E9B-9754-82834851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E7D-9291-4A6C-B654-235A568F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BD7-4F3F-421F-B677-FCA1C5B4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407E-2DB1-44C3-8098-F815CB3E0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ia Kapcia, Nina luu , and Kevi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2590920"/>
            <a:ext cx="36482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and in Rus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tains in Russia and not a lot of land to plant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lno in Kauchattea Penisula that is part of King of fire (Mt. Elbr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land for farming but it is too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228600"/>
            <a:ext cx="6181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ad about land in Rus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10391760" cy="7791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people adapted to the bad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 so , if something gets into there drinking water 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ood things about the land in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s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navigatable rivers tourists can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400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’s land is good in many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cause it is very good cold, Russians cant use it as much for growing crops most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the navigable rivers, the Russians can import and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cause of the cold weather again, it is hard to shop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676520" y="-49320"/>
            <a:ext cx="12573000" cy="6915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657600" y="0"/>
            <a:ext cx="1362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i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44:50Z</dcterms:created>
  <dc:creator> </dc:creator>
  <dc:description/>
  <dc:language>en-US</dc:language>
  <cp:lastModifiedBy> </cp:lastModifiedBy>
  <dcterms:modified xsi:type="dcterms:W3CDTF">2010-12-20T16:47:22Z</dcterms:modified>
  <cp:revision>6</cp:revision>
  <dc:subject/>
  <dc:title>LAND IN RUSSIA</dc:title>
</cp:coreProperties>
</file>